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743-A6E9-4F81-B149-B36D51BB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254-6B3F-46AC-AAF8-2E3EFBC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D9A-FF00-437E-8346-300CD495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DBE-5772-481B-AA15-F30E7F02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F7E6-8D35-4632-AB8F-2E3AFE2A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412-C74E-4A99-8793-D44E5EFB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88E-A41C-484A-94EB-FB26A851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AD5-07AD-44BA-BE04-BC484C80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378-21EF-470F-A38E-9A1D0BE4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87B-715C-43DB-A7D4-ED469F7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43C-A4E8-4FD4-9CD5-6F2D992A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8A3-03BF-48D1-8CD3-CF0D107F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7725-91FD-41F4-A52B-4065EB457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kquisenb</cp:lastModifiedBy>
  <dcterms:modified xsi:type="dcterms:W3CDTF">2004-07-17T19:43:25Z</dcterms:modified>
  <cp:revision>17</cp:revision>
  <dc:subject/>
  <dc:title>No Slide Title</dc:title>
</cp:coreProperties>
</file>