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password.wav" ContentType="audio/x-wav"/>
  <Override PartName="/ppt/media/image10.png" ContentType="image/png"/>
  <Override PartName="/ppt/media/image2.jpeg" ContentType="image/jpeg"/>
  <Override PartName="/ppt/media/image9.png" ContentType="image/png"/>
  <Override PartName="/ppt/media/buzzer.wav" ContentType="audio/x-wav"/>
  <Override PartName="/ppt/media/image6.png" ContentType="image/png"/>
  <Override PartName="/ppt/media/image11.png" ContentType="image/pn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680-B7AC-48A1-BA31-250028C5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68E-35D3-4CC1-B294-3893A72F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EDB9-4259-4183-AB73-909F9C2B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D9DF-486C-4B62-BDD3-6EEC2955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7238880" cy="66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687-6FB4-4755-AE74-336F78D7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E4E-B405-4643-AFC9-6B7BB5F3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13E0-4BCE-48C6-A0A5-FB510356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F451-9B62-40FB-A8EB-2948B8D9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7238880" cy="66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8CA-8ADD-41BC-96F3-BB454DE9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1BA-B2AC-4D2F-B59D-81706E3D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C5AE-4B94-43DC-934C-FE607B1E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B528-F6E0-4629-A008-6D2BB944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2B3A-F001-45A6-A9A6-8A79733359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2514600" y="137160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2083" y="-29631"/>
                </a:moveTo>
                <a:arcTo wR="32000" hR="32000" stAng="-4068917" swAng="8137834"/>
                <a:moveTo>
                  <a:pt x="12083" y="29631"/>
                </a:moveTo>
                <a:arcTo wR="32000" hR="32000" stAng="4068917" swAng="41"/>
                <a:lnTo>
                  <a:pt x="12083" y="29632"/>
                </a:lnTo>
                <a:lnTo>
                  <a:pt x="12083" y="-29632"/>
                </a:lnTo>
                <a:lnTo>
                  <a:pt x="12083" y="-29631"/>
                </a:lnTo>
                <a:arcTo wR="32000" hR="32000" stAng="-4068958" swAng="41"/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3222720" y="304920"/>
            <a:ext cx="403884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994" y="-25753"/>
                </a:moveTo>
                <a:arcTo wR="32000" hR="32000" stAng="-3215387" swAng="6430773"/>
                <a:moveTo>
                  <a:pt x="18994" y="25753"/>
                </a:moveTo>
                <a:arcTo wR="32000" hR="32000" stAng="3215387" swAng="64"/>
                <a:lnTo>
                  <a:pt x="18994" y="25754"/>
                </a:lnTo>
                <a:lnTo>
                  <a:pt x="18994" y="-25754"/>
                </a:lnTo>
                <a:lnTo>
                  <a:pt x="18994" y="-25754"/>
                </a:lnTo>
                <a:arcTo wR="32000" hR="32000" stAng="-3215450" swAng="64"/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assword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Vocabulary Review 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657600" y="4572000"/>
            <a:ext cx="2057400" cy="1863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5981760" cy="1562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passwor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22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41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60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79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98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 Directions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523520"/>
            <a:ext cx="7313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e a vocabulary word on each of the following 10 slides in the subtitle textbox.  When complete, run the show by pressing F5 on the keyboar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student stands with back to this present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lass gives the student clues to the vocabulary word onscreen as a clock keeps ti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tudent tries to guess the word before the buzz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99"/>
                </a:solidFill>
                <a:latin typeface="Arial"/>
              </a:rPr>
              <a:t>Ready to play?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410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08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27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8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46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65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84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03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0:20:42Z</dcterms:created>
  <dc:creator>Connie Campbell</dc:creator>
  <dc:description/>
  <dc:language>en-US</dc:language>
  <cp:lastModifiedBy>Connie Campbell</cp:lastModifiedBy>
  <dcterms:modified xsi:type="dcterms:W3CDTF">2006-07-24T02:17:32Z</dcterms:modified>
  <cp:revision>8</cp:revision>
  <dc:subject/>
  <dc:title>Password</dc:title>
</cp:coreProperties>
</file>