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75DF-9084-4A13-809B-E3B81296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07C5-C961-442A-82BE-18E2C5D7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3061-3AFC-4D87-935B-C1D321D8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31FD-1D59-4060-B7C2-1CB0BC4C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F2F6-106F-41C5-A34E-EE650F52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2B82-E258-4BF0-AC9B-52247EC0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6B15-3A86-4ED1-9CE8-32F86904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99EC-DAFE-4B01-ABE5-FB033B41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50FD-96A4-4E73-B350-E0B724B0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22CD-AB8E-4E36-A0B0-5D17509C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CF97-CC5C-4046-A817-52C3F4E6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C874-CE15-4A65-B5E5-10F4872D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667C-7FED-40AA-831A-E8AD63D3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9A4E-F0A6-4327-BADD-96CA29A6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66A8-7B34-4DB3-81A9-27A963E7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C5C5-FC77-4B28-BDF9-A0AE1111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D7FA-A28D-43C5-BB4F-5D7261F2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4FFC-5D6C-488B-8AF4-2DAFC9CE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7DEC-FC63-4013-908E-B3817843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3DC5-4DE2-4DCD-BD48-37794CE3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21F3-635C-4A20-965C-C3CF8D78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A615-174D-4C8E-90BB-E93BFC8E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B69B-A537-4017-877E-2060EDA8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E6AF-2A92-4B01-9E51-3C24FBE1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FAA9-026C-4323-9B28-E83F3EFB59B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EE7D-93C3-4DAD-8E72-63B64F3E842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5.xml"/><Relationship Id="rId10" Type="http://schemas.openxmlformats.org/officeDocument/2006/relationships/slide" Target="slide17.xml"/><Relationship Id="rId11" Type="http://schemas.openxmlformats.org/officeDocument/2006/relationships/slide" Target="slide19.xml"/><Relationship Id="rId12" Type="http://schemas.openxmlformats.org/officeDocument/2006/relationships/slide" Target="slide21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slide" Target="slide2.xml"/><Relationship Id="rId21" Type="http://schemas.openxmlformats.org/officeDocument/2006/relationships/slide" Target="slide2.xml"/><Relationship Id="rId22" Type="http://schemas.openxmlformats.org/officeDocument/2006/relationships/slide" Target="slide2.xml"/><Relationship Id="rId23" Type="http://schemas.openxmlformats.org/officeDocument/2006/relationships/slide" Target="slide2.xml"/><Relationship Id="rId2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Topic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5th Grade Topic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4th Grade Topic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4th Grade Topic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3rd Grade Topic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3rd Grade Topic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2nd Grade Topic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2nd Grade Topic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1st Grade Topic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1st Grade Topic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2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ade Level Topic 1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Connie Campbell</cp:lastModifiedBy>
  <dcterms:modified xsi:type="dcterms:W3CDTF">2008-02-14T14:42:38Z</dcterms:modified>
  <cp:revision>21</cp:revision>
  <dc:subject/>
  <dc:title>Are You Smarter  Than a 5th Grader?</dc:title>
</cp:coreProperties>
</file>