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  <p:custShowLst>
    <p:custShow name="Custom Show 1" id="0">
      <p:sldLst>
        <p:sld r:id="rId3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C49-AA9F-478D-A0B2-68FE927E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84D-7A4C-4192-B65D-B7691602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F49-BA33-4423-A130-64684700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F07-A522-4B87-840E-1A5DA11C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EE0-F643-47B7-A3A2-6274C99C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1BF-7A06-4370-8929-ED1ADF0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128-0F56-4575-A098-06BB87BD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32D-D280-4D4A-884E-B9B623B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7B4-CE47-42A9-B2ED-A01BB5A5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763-1362-4914-859E-86D049B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D76-D5E8-4722-A3EC-771C529C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4E8-69D4-48DC-A8FD-A1E1FCB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634B-87AD-40F6-9241-CB9EFD166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millionaire%20money%20list" descr=""/>
          <p:cNvPicPr/>
          <p:nvPr/>
        </p:nvPicPr>
        <p:blipFill>
          <a:blip r:embed="rId2"/>
          <a:stretch/>
        </p:blipFill>
        <p:spPr>
          <a:xfrm>
            <a:off x="4821120" y="304920"/>
            <a:ext cx="4056120" cy="6172200"/>
          </a:xfrm>
          <a:prstGeom prst="rect">
            <a:avLst/>
          </a:prstGeom>
          <a:ln w="0">
            <a:noFill/>
          </a:ln>
        </p:spPr>
      </p:pic>
      <p:pic>
        <p:nvPicPr>
          <p:cNvPr id="43" name="millionaire%20logo%20small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3429000" cy="289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514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295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914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257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5638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6095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4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5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6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7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8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9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0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1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4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6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8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0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3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3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5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7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8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8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5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7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7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9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0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1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2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2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2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3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4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4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6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6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6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7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8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9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9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0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1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1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2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3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3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3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5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5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5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5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7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9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7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8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8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9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9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0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71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millionaire%20logo%20small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2920320" y="557280"/>
            <a:ext cx="333396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eat Job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0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2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2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2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4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5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5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6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7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7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8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9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9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1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1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3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STANLEY</dc:creator>
  <dc:description/>
  <dc:language>en-US</dc:language>
  <cp:lastModifiedBy>srubin</cp:lastModifiedBy>
  <cp:lastPrinted>2000-05-03T23:45:17Z</cp:lastPrinted>
  <dcterms:modified xsi:type="dcterms:W3CDTF">2001-10-05T14:10:23Z</dcterms:modified>
  <cp:revision>30</cp:revision>
  <dc:subject/>
  <dc:title>No Slide Title</dc:title>
</cp:coreProperties>
</file>