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4417-7DC1-4876-BA9F-1DB02BB2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D0E-02A7-4B77-941F-18E2988F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B9D3-A262-4438-B2FE-1DBE7D7D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966-C013-49F8-81D3-E216B12B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6EF3-6F9C-4A8B-9A00-BEB73109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BE36-200D-4035-9CBD-6930C637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309D-06F4-4C7F-8574-B1C7C7C2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AAE4-E0C0-41E2-BDF5-F9A9A3B7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6B65-8C7E-4D4A-AE97-0DC612F8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B92E-3A89-45AE-8891-D0999054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D403-E587-4346-86E0-EC169DCE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B456-724A-4976-BC3B-101EB542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ACC0-64EB-4581-9F3F-800A34D5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A5E2-CD2C-49F7-85F1-1EB377DD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14F6-2F8B-481B-B06F-FA774853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4E6B-5F50-479B-BC03-5B9034F3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16E3-4746-4318-9006-8B159923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81E2-FA75-4876-A45B-DB3837CB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417-90BE-4756-9C15-271A3087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8E9-E4DD-4E05-B023-2A5FF12F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F257-F64D-4B7A-AD97-252E87D3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242-741D-4059-9534-CEBF0D58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B18-1904-4BB2-A11D-84B93DC0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D69-BCCB-4CD4-B34F-46B41196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48E8-C6A8-47AD-9448-21ABB50E70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23EA-CD74-4B56-B666-39D3928456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m_button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sfms</cp:lastModifiedBy>
  <dcterms:modified xsi:type="dcterms:W3CDTF">1999-10-12T23:28:56Z</dcterms:modified>
  <cp:revision>14</cp:revision>
  <dc:subject/>
  <dc:title>Jeopardy</dc:title>
</cp:coreProperties>
</file>